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4C48-84BF-421F-AED8-97594A5E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9FE6-D417-4E8B-B607-FDED6954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C0A0C-F93C-4A33-867F-117CDC86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5A9C4-4903-4AFD-8AED-4EBC1393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394B5-F97E-47FC-B135-7D08BB4D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B7FF6-E9A3-49BB-93CF-DA457C1B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E5A46-7712-4651-A6CB-80509E87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96AD0-A4D7-48E2-9C15-77376259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715D3-1036-4ED3-9EAC-3787FB3D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53129-5E6E-4986-9CC5-81C1CAFB4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52777-56F3-423C-8321-D4F378E19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31C66-4CC4-41FD-B79E-FD18DF09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3ABA-8DF3-4618-AAC9-F6E4AB47F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ACB1F-9BF8-4A37-801E-582EACB0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B88E5-CA04-4FDD-829D-BA419ED3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87466-4E75-48A9-AF4E-513AE3A0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CD99A-E420-4747-8C67-BD97E5BA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6616F-731C-41B0-B967-9501144A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8FABA-3801-4DF8-AF95-688142A9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FE0F5-9EFC-41C7-914B-9A91F20C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31837-F45C-4925-9F88-0943F7CE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DDE52-95AC-412F-BB3E-5D539844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EFDB8-12E3-456E-A0DC-5FB53B3B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75D8-3519-4F7A-BE2F-C1C0DB2F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67D4C-395B-4EB0-A74E-3FDACD5A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DF7A2-0C8A-4A04-833E-0FC72C05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FA58E-D763-4EAC-86E0-45D578DF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0B6CE-2690-49F3-9B1B-207B30EE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0327C-6999-4009-8E8C-98CB3841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41D4B-8943-4290-9486-71EC0394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B2635-C2F7-4595-9B4D-9E42BA2C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E0DF7-F739-4ECE-9A3E-CA59BA13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D2DF7-2D36-439E-BAF9-8E5719D7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46C91-E68D-4F48-9215-2A506A9A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6AFD-4EC2-4969-A8B9-607B014E9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786E3B-D3A8-4441-BA9D-2118801B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770FA-1F2F-4B26-897F-C9A6BC70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5535E-C25D-45EB-A0AD-2796285B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9B523-7BC4-48C2-BA49-E53ABB0F2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F5D62-67D0-44B5-8097-2AB90265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1FEF0-1B03-4129-B58A-7EDAE929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E760E-D9D8-4B6F-8329-6D15A903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1D6A8-534E-4906-9752-A325D13F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D8E52-59EA-413B-8CD0-EC5549BD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19593-6557-4E18-9436-0119029C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89B7-DC88-4F9D-BC72-768548F0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56498-2B4E-4E95-A1D7-73AFB269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14B56-BD45-4899-8BE6-69F6DE72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D05E2-5356-4C0F-A4CD-E01E95B6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3C9ABA-B88A-41FB-A534-883E391F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1B31C1-6F05-4BD7-95D4-3AB008BA2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8737D6-78BD-4A28-96D1-7E0C49879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8DB5B2-29BF-4325-B9FE-54C444A0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0E9ECB-6AB3-4AD4-B6E5-3600FB85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FC58BD-3D2C-46DB-93B4-FE55D727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093A84-601C-4D50-B4E0-47874BB4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CCA8-2BCE-4858-90D7-15BD092B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47ABE9-A2E4-47B6-8F43-F7DC95DB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0D1A53-D573-4A9C-8847-17A5FBFA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CA97B8-7844-4CD7-90BC-3DD1661C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9C4D78-1F8A-4C9F-AE61-71E450E5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A7C0D7-F23C-45AB-B6F5-981A8AA5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4D311B-97DC-433C-98F7-6EE10791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9BB81F-DF35-4A58-98CC-A7E1DBA4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F20EB6-F7F6-403E-85F7-892224BDB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621515-D2C3-40F7-9335-7E3F67C9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95B064-9BCC-4AE0-8F72-3BC9BB21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50DB-70A6-414A-8EE8-42001A4E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B8DCCF-8506-4CA8-AC69-41C04C43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593920-FA4F-4A7D-A5A2-2D3AE1A5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7442FF-B514-4EED-A609-E7A91FFA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10CFF9-0A8D-4E73-A2BE-71FF8D13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51B2E9-B5D1-4CA8-8EA5-058AB704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A0F121-4300-4DC2-A089-DC6F2B84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563165-D768-49A8-A5A9-83293647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28B5C0-72A8-4D31-9831-F95542337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D85F6A-E663-4772-9CED-70CCF67D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DCC7AD-4595-4FA3-91B2-EF228847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FBB5-4C51-4224-B662-8FF75AE3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BDA5E3-DFBB-4887-9B72-565ED574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751AE0-3109-4F6B-A85D-82F36223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EC59E8-3C78-4DA1-884A-61A6C724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D7E42B-F946-4FEB-9655-404BBDD6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3BECFB-8041-4B42-BEA5-C3B21306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E9AEDB-BC38-4640-9460-44C75B94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3A2362-63B3-4F18-8736-1A60FF50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8B7B58-377E-4E0D-85D4-E99F0B1D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2D0553-2012-4437-A72F-F4A6E6FA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60B38C-1D5D-4531-95F2-F1F5FBF7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7D7A-B936-4012-9340-FD1EF64F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AAB150-275B-487A-9A42-C1ACDCFF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238952-B471-453D-9FA3-D35E1593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BB7A31-D907-4B17-81D0-58F3656E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B4D483-2A59-4F0C-83F5-CDAC1C0E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909F0F-9BB3-44D3-A9ED-38327C36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CE16E0-4F73-40B9-9085-80BC9F1A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BE51DA-2E3D-4956-941E-7B3FBA02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7DD2F1-B48C-4906-8F62-1568BB31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943469-CB7B-469E-A4EE-CD105433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A19895-2AB4-4F0E-9994-B1C2726A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3CBD-E479-4C43-A16A-7EDA68A4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320231-2773-4B96-A53A-7F4CE26F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72225A-76C5-4D1A-A0F1-BB30F120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04E536-327F-4A10-8058-BFB805F3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C7889A-DAA0-492A-B8E1-5DD502CC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567533-0427-4401-8A1D-A50C920F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E00603-4668-4A13-B644-20784C4D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3DA300-9E6A-45E8-9E6F-06D23934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FE9CE8-2AC6-4B6D-B44A-C07FA429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5E8B20-3117-42DC-876D-10304331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1CF2C0-1D08-4337-B2E5-76DA3387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728B-149C-44CF-86A8-635E3BC2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C97C-5C2A-41FC-B2E1-51BEB620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195C84-DEBE-40D2-A9C3-6FCD040C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D5D75C-5BBE-432C-8C21-5AE94A3B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F12DFC-5D89-4F57-80AE-EA5076D0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DC8808-C28A-4A8C-A86D-215B86EE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10E542-3C06-449C-879F-0BDDBB00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2A3061-999A-4388-84D3-7A2843C0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E113FC-3ABD-42BC-9970-618EB6C4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00FB48-E7D9-422C-9027-71B0C4D8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9BEB9B-BA9C-429D-990E-5BF09739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8C634B-3F05-4DFE-AB38-2321A52A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0A3A-375C-452C-8E00-1D1A5A7F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4E8661-A251-413D-A651-172A9E7D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851092-E964-4906-AD74-A442940E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5E11DF-C676-44D7-B165-62C77BA0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4616F8-41CA-4DF2-96A7-E3A4EB76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050872-D282-4227-A70E-F25BA3B6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1F9C90-DC52-4447-9C70-57F124664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FC02FB-5FF0-414E-BED3-3810BB29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9944B7-EF67-4A4F-81D3-D7E594C0B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B7D881-C978-4415-9810-B154BFA8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719807-30E8-487B-8741-039B5AFB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F651-37A2-44CD-A51D-46BECC61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465687-6738-44D2-B409-8C0FB7A9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12C0B5-596B-4F5C-9A42-D38BA87D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F5C71F-40D6-4959-92CA-1046C34C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51F524-BB0C-4B64-B17C-91A93E82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35B11A-CDB6-4282-AD09-5EF8DFF2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5DE084-C29F-4F3C-BC05-24F19764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D2D2CA-708D-4065-B609-81B6F2AA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ACDE26-420F-4259-A4FE-43D14D4A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FCDA29-7EB1-4172-B843-FA648F4F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24B976-FE79-4E91-9F61-CD38F840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937B-5252-4E25-B194-9B062A934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6FE863-A1FF-481A-8F46-D7958D33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7CA84C-D810-42B4-BC0E-FA9C4D01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B1A5D7-67FD-4C32-9423-5ABF05FE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24C75B-68E3-4774-8321-65951986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7BC285-61A5-4108-8A50-F6DFE5CD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47D70B-61C5-4551-8F3A-6E1A5262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975029-EFEC-49B9-A7FE-1BCB2779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B2D57E-6791-4CDF-8026-6F337AA8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4F881A-44E2-41F8-85E6-1C129936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77AE8E-2BF6-499A-96F0-F0F743A83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B5C8-15F1-40FB-87E6-A950490D1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2AD29E-3C47-4694-88A3-DD8097C87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7DB410-B5C1-4858-800A-143469DF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25F036-AE31-4F3B-9537-EEA4024C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957033-B5BB-4013-9A1E-40F3DC2C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0A2C3A-A866-4160-95F4-99FC20AE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DF3D4A-36E7-426F-A12D-2625B0C3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AD33D4-6920-4CBB-A313-D1B9C64C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6F98B5-1A33-4735-B591-287ACBCB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B5A699-703A-4E9D-A8A8-29F58C6A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C1EE27-9326-4352-A792-00B8EFAA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F22A3-CEDA-42E7-BC3F-554B717E1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4DA629-AED7-4906-9F05-55361F57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AF81F7-8CCF-4374-8E58-A5743E83F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AD89EE-D222-4044-8C51-CD15FD767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3550C-C980-4AF2-85C6-1718EA3F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E330C-E9F3-476B-AB39-B4B7F440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473CB-601C-47A6-A056-DD522618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0BC12-7993-40A7-97E3-5EF24A25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0E97-0BAA-42BB-983F-7A59A47F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B5E01-178E-4765-89A2-76C0A29E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4281C-4237-4FA9-99D3-80AE4D4F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B45D0-09FB-477B-B993-632C7FF4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5133B-A249-4AC0-A421-E509BD00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A7F69-224B-4FB5-93FB-628A84B5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2D1F4-0FA4-4084-87AE-ECA11DC9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5ED94-64D4-4E18-8628-ABA4C4DF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74672-793C-408F-B6A6-5009345AA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FF9EE-39FA-4701-A8B6-0B4B8654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57CD3-2DA8-43FF-ABA9-A78337AC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C735-DA10-4DE3-8564-0B1855C0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43E34-37BD-440F-9D18-9C1A1F21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04DB7-8FB2-40D6-A3F2-7BB3F7C8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81222-616D-4F10-B97A-8E486C0C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4794C-8E3A-482E-86D7-EF9A1D79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5B65F-82C7-4E3E-93A7-D3352A22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8235B-474A-4C82-8C9B-6A79EDA2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AD6AB-D1CE-486A-AA96-6B2B98C1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A62C0-8594-4BFD-952A-42ED3BAD7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E9A8E-8645-4755-B2E0-7BEB453C0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8FD20-6C59-4B0F-8486-9581D7832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5B4A-9FAC-4574-A784-2F8AFF95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4EF6F-3E2D-401A-B57C-5AE76A8B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783F7-6E89-42EB-8F06-2D26EB50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BC2E9-B17C-4040-AA46-F25678CC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67E41-63F8-44EF-BB44-FF958D84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F93EC-E846-4C88-864C-73C944F1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233E5-2697-453D-A889-43EEC7A0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ECF0D-6DE6-4A68-AFC3-F851222D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04BE0-0011-4A2B-8457-EB5F23C9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E1BA9-9693-4D39-A1DF-660A87E9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7DF66-5DC2-4160-A2EC-57B70092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E56F-7DAC-4B98-BDBF-98CE7E51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44B37-727A-41A3-B415-498F0B8B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9703F-E7BF-43D9-B0D7-9EBE9361D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40EAB-A217-4D42-A7D9-5DC32E88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61ACF-4944-4A08-A1E9-A6962437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35BB7-3649-4FE9-BAEE-4183EE26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056B9-F0D8-4B2B-A45B-064E0C22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1E0AD-A6AC-4719-B1A2-8D57C147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020E7-5C7D-43DE-8A7F-4E71B3C6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A9236-6DC4-48BF-9F90-8FF2916A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40DC1-C76C-42AC-9905-0EE0C56D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14DA-C1C3-47E4-AFBA-BEC57D4F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4E179-3783-4748-B079-9EA2DC1D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01736-A5A8-4591-ADDC-FA0593445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E689A-B77E-4B0A-8FC6-4A744572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73812-005E-4E64-8608-1B8FEBC6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3D8BA-CBD8-4CA4-AFD7-BB20E184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C959D-E10A-49B7-8E14-C1D99CCF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FF174-9B98-4ECF-971A-D5316317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56AAB-F06E-49D7-AC9D-4BDE969D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EE2F9-C32D-4E62-9F85-6F3CD92B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6F288-43C1-4B41-AE3A-A9371A02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E40C-1722-466B-9E24-171EB1C2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CEF0E-4508-455F-BDE0-8BFDCAF6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B3FB2-5A9C-483E-96E7-BE38F7AE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8E194-9092-4E3F-9B56-244A2AD3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95379-E96E-4A10-8459-67ECCD513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17DBC-488D-4C7B-B0C0-97B7BACB0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86E14-89CF-4E44-979A-856A5FD9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A11F0-2796-4CE7-A611-4FF08CD6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62610-79EE-453D-AEDC-FCB329AC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B7CAD-2808-4623-8C51-B1125E27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A181E-CB72-4506-8368-57F8ABDB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184D-7D90-431D-BFE3-5133F55D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0887F-6ED3-4E69-9165-C70AFCC9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75A37-CFD1-4D8B-A5E1-6FCAFE7D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5A08E-A7D0-4AE3-80A0-FE3690C4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89920-D464-429C-AC45-31035F00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244F0-CC9D-433A-835D-2203BE54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31821-9B35-43D3-8B0E-354362D9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5F44D-6E6D-4076-B35A-0D80D7F80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812F4-8F3D-4616-A8B5-1092595D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B93E8-22FB-4315-ACBB-B8C4D041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34C99-87F0-4D5C-960A-2C75CF67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0A80-1A6D-4CF6-B6C2-73ABD05B2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8139-B759-44AA-8A68-AA2656A376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0823-917C-46CA-AA0B-AF047314CD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F00E-C586-4D7E-AF82-CD1B4C9567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EADE-0719-42CD-B62C-264D3CA292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1B67-19EC-4EF8-B58B-60425691B9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BE1F-E316-4001-B812-ACF71A58A5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08C4-1556-4A8D-9712-14B5461B42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25E4-AB9A-4E7F-B547-9769B6892D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8677-974D-4555-9C56-821B624F72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3DCA-4F5F-4119-A36B-9639FFA650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D1C8-6203-456E-A3DA-93AD39422D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7124-4A87-4F04-8F1A-090FFB1D0B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BB9C-93AE-45DD-A605-84A0E1DE65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84DC-F437-46E6-A602-8C558FDA75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CC9B-3BC7-48C8-B522-BB16B50F00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961C-8B50-4D8A-B666-7633E412E8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0329-A583-4C2E-B9B3-C27CA3C794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EE32-A69B-4041-9104-6EF33338B9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3C60-3666-46C0-8B95-EC16CD8DF3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B223-5F8F-492F-80A6-3DF04A454C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B528-3891-422B-8A13-1DAEB43F2E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AD29-BDFD-44D4-9D0B-B910D63051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F9C9-804F-4D66-8105-9347185326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F0EB-9A0B-4CF3-802B-35536C4D2E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A612-6E5B-4A85-826F-E86B15B0CC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FCE0-2E0E-4E42-8132-706A55329F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3978-7151-4443-9303-2547A1878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8237-71BE-4B01-BC45-11C4FB04E9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1216-3EE9-4541-8805-17DB54EAFB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F392-A7B2-4646-BA6D-F76962E10F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9360-B1C5-40FE-B5A5-4D6C9CBEC0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52F2-A706-405B-A2B0-CD87AA8EAC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2F77-F3BD-416C-AC78-1464D9474C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7B19-31FE-4497-B4F5-3DA17C76DE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6CDD-2D9C-4DBF-9FA2-9396C7BBF6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ACE4-EDB3-4AFB-9EE1-9AECF68264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5B71-9BEA-4BAB-880F-C12AE19298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5595-2D2D-42C7-A921-D3DE64FA35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1824-212C-4848-8CD8-60225983E2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3915000" cy="83808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971640" y="2852640"/>
            <a:ext cx="7238880" cy="1123920"/>
          </a:xfrm>
          <a:prstGeom prst="rect">
            <a:avLst/>
          </a:prstGeom>
          <a:ln w="0">
            <a:noFill/>
          </a:ln>
        </p:spPr>
      </p:pic>
      <p:pic>
        <p:nvPicPr>
          <p:cNvPr id="1026" name="图片 3" descr=""/>
          <p:cNvPicPr/>
          <p:nvPr/>
        </p:nvPicPr>
        <p:blipFill>
          <a:blip r:embed="rId3"/>
          <a:stretch/>
        </p:blipFill>
        <p:spPr>
          <a:xfrm>
            <a:off x="2700360" y="3933720"/>
            <a:ext cx="36669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6" name="图片 1" descr=""/>
          <p:cNvPicPr/>
          <p:nvPr/>
        </p:nvPicPr>
        <p:blipFill>
          <a:blip r:embed="rId1"/>
          <a:stretch/>
        </p:blipFill>
        <p:spPr>
          <a:xfrm>
            <a:off x="100080" y="765000"/>
            <a:ext cx="8942400" cy="5058000"/>
          </a:xfrm>
          <a:prstGeom prst="rect">
            <a:avLst/>
          </a:prstGeom>
          <a:ln w="0">
            <a:noFill/>
          </a:ln>
        </p:spPr>
      </p:pic>
      <p:pic>
        <p:nvPicPr>
          <p:cNvPr id="1077" name="图片 2" descr=""/>
          <p:cNvPicPr/>
          <p:nvPr/>
        </p:nvPicPr>
        <p:blipFill>
          <a:blip r:embed="rId2"/>
          <a:stretch/>
        </p:blipFill>
        <p:spPr>
          <a:xfrm>
            <a:off x="755640" y="6021360"/>
            <a:ext cx="4846680" cy="46692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3"/>
          <a:stretch/>
        </p:blipFill>
        <p:spPr>
          <a:xfrm>
            <a:off x="8101080" y="21477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4"/>
          <a:stretch/>
        </p:blipFill>
        <p:spPr>
          <a:xfrm>
            <a:off x="6156360" y="34005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5"/>
          <a:stretch/>
        </p:blipFill>
        <p:spPr>
          <a:xfrm>
            <a:off x="8101080" y="40482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6"/>
          <a:stretch/>
        </p:blipFill>
        <p:spPr>
          <a:xfrm>
            <a:off x="2556000" y="466740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7"/>
          <a:stretch/>
        </p:blipFill>
        <p:spPr>
          <a:xfrm>
            <a:off x="4788000" y="5300640"/>
            <a:ext cx="576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5" name="图片 1" descr=""/>
          <p:cNvPicPr/>
          <p:nvPr/>
        </p:nvPicPr>
        <p:blipFill>
          <a:blip r:embed="rId1"/>
          <a:stretch/>
        </p:blipFill>
        <p:spPr>
          <a:xfrm>
            <a:off x="809640" y="1309680"/>
            <a:ext cx="752472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9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1" descr=""/>
          <p:cNvPicPr/>
          <p:nvPr/>
        </p:nvPicPr>
        <p:blipFill>
          <a:blip r:embed="rId2"/>
          <a:stretch/>
        </p:blipFill>
        <p:spPr>
          <a:xfrm>
            <a:off x="109440" y="1481040"/>
            <a:ext cx="8923320" cy="38959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1130400" y="2276640"/>
            <a:ext cx="576000" cy="4489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4"/>
          <a:stretch/>
        </p:blipFill>
        <p:spPr>
          <a:xfrm>
            <a:off x="1187280" y="29242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5"/>
          <a:stretch/>
        </p:blipFill>
        <p:spPr>
          <a:xfrm>
            <a:off x="1187280" y="35002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6"/>
          <a:stretch/>
        </p:blipFill>
        <p:spPr>
          <a:xfrm>
            <a:off x="1116000" y="41497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7"/>
          <a:stretch/>
        </p:blipFill>
        <p:spPr>
          <a:xfrm>
            <a:off x="1187280" y="472428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490680" y="1247760"/>
            <a:ext cx="8161200" cy="4362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1476360" y="393372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395280" y="1062000"/>
            <a:ext cx="8352000" cy="47340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755640" y="350028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图片 1" descr=""/>
          <p:cNvPicPr/>
          <p:nvPr/>
        </p:nvPicPr>
        <p:blipFill>
          <a:blip r:embed="rId1"/>
          <a:stretch/>
        </p:blipFill>
        <p:spPr>
          <a:xfrm>
            <a:off x="419040" y="2157480"/>
            <a:ext cx="8305920" cy="25430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755640" y="2205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2" name="图片 1" descr=""/>
          <p:cNvPicPr/>
          <p:nvPr/>
        </p:nvPicPr>
        <p:blipFill>
          <a:blip r:embed="rId1"/>
          <a:stretch/>
        </p:blipFill>
        <p:spPr>
          <a:xfrm>
            <a:off x="1433520" y="1490760"/>
            <a:ext cx="6276960" cy="3876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2"/>
          <a:stretch/>
        </p:blipFill>
        <p:spPr>
          <a:xfrm>
            <a:off x="2484360" y="234936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1285920" y="750960"/>
            <a:ext cx="6572160" cy="3056040"/>
          </a:xfrm>
          <a:prstGeom prst="rect">
            <a:avLst/>
          </a:prstGeom>
          <a:ln w="0">
            <a:noFill/>
          </a:ln>
        </p:spPr>
      </p:pic>
      <p:pic>
        <p:nvPicPr>
          <p:cNvPr id="1057" name="图片 2" descr=""/>
          <p:cNvPicPr/>
          <p:nvPr/>
        </p:nvPicPr>
        <p:blipFill>
          <a:blip r:embed="rId2"/>
          <a:stretch/>
        </p:blipFill>
        <p:spPr>
          <a:xfrm>
            <a:off x="1542960" y="3807000"/>
            <a:ext cx="4152960" cy="1857240"/>
          </a:xfrm>
          <a:prstGeom prst="rect">
            <a:avLst/>
          </a:prstGeom>
          <a:ln w="0">
            <a:noFill/>
          </a:ln>
        </p:spPr>
      </p:pic>
      <p:pic>
        <p:nvPicPr>
          <p:cNvPr id="1058" name="图片 3" descr=""/>
          <p:cNvPicPr/>
          <p:nvPr/>
        </p:nvPicPr>
        <p:blipFill>
          <a:blip r:embed="rId3"/>
          <a:stretch/>
        </p:blipFill>
        <p:spPr>
          <a:xfrm>
            <a:off x="2943360" y="5691240"/>
            <a:ext cx="3257280" cy="11142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4"/>
          <a:stretch/>
        </p:blipFill>
        <p:spPr>
          <a:xfrm>
            <a:off x="1547640" y="765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5"/>
          <a:stretch/>
        </p:blipFill>
        <p:spPr>
          <a:xfrm>
            <a:off x="1835280" y="3860640"/>
            <a:ext cx="576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3" name="图片 1" descr=""/>
          <p:cNvPicPr/>
          <p:nvPr/>
        </p:nvPicPr>
        <p:blipFill>
          <a:blip r:embed="rId1"/>
          <a:stretch/>
        </p:blipFill>
        <p:spPr>
          <a:xfrm>
            <a:off x="485640" y="619200"/>
            <a:ext cx="8172720" cy="61326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2"/>
          <a:stretch/>
        </p:blipFill>
        <p:spPr>
          <a:xfrm>
            <a:off x="826920" y="6350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3"/>
          <a:stretch/>
        </p:blipFill>
        <p:spPr>
          <a:xfrm>
            <a:off x="885960" y="3789360"/>
            <a:ext cx="576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8" name="图片 1" descr=""/>
          <p:cNvPicPr/>
          <p:nvPr/>
        </p:nvPicPr>
        <p:blipFill>
          <a:blip r:embed="rId1"/>
          <a:stretch/>
        </p:blipFill>
        <p:spPr>
          <a:xfrm>
            <a:off x="30240" y="876240"/>
            <a:ext cx="9083520" cy="579744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2"/>
          <a:stretch/>
        </p:blipFill>
        <p:spPr>
          <a:xfrm>
            <a:off x="1547640" y="3673440"/>
            <a:ext cx="1152720" cy="4492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3"/>
          <a:stretch/>
        </p:blipFill>
        <p:spPr>
          <a:xfrm>
            <a:off x="1547640" y="4307040"/>
            <a:ext cx="1152720" cy="4492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4"/>
          <a:stretch/>
        </p:blipFill>
        <p:spPr>
          <a:xfrm>
            <a:off x="2195640" y="4927680"/>
            <a:ext cx="1584360" cy="4492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5"/>
          <a:stretch/>
        </p:blipFill>
        <p:spPr>
          <a:xfrm>
            <a:off x="6084720" y="5560920"/>
            <a:ext cx="1727280" cy="4492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6"/>
          <a:stretch/>
        </p:blipFill>
        <p:spPr>
          <a:xfrm>
            <a:off x="1258920" y="6165720"/>
            <a:ext cx="17272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5:42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